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A6C62-1903-4C08-BBB5-49601E4E25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e3ded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5AD96-2D34-4DC8-8BBF-2F430CAE8E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e3ded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73BF8-3906-4EC9-A133-567D7DD72B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e3ded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17B02-315D-4D30-813F-B858B33DD3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BDF3A-5940-41FA-8C07-6B54928539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e3ded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D245E-8389-48E1-9B3E-48809FF66AA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e3ded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520EB-992B-4A37-BFA6-1679022856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e3ded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4559F-1CAC-426B-8345-6A51FCDC32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e3ded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BFBF2-2823-47CF-B28A-7DC30A315C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21F81-E64E-4CB2-8B28-85BC59C2C5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e3ded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991C9-4BB7-4AA3-A825-9C9C6D1D5D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e3ded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83678-196A-4BE1-A22B-93F79DDF21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e3ded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F49C5-DFEA-4A15-80F6-A3B9C187C0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e3ded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65AB5-E4B4-41FB-A47E-C94EA2D34C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e3ded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4D370-9530-48D6-9790-4892D4B546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e3ded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13EA2-EF99-45C1-ADE1-65FBFD27CB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e3ded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06CE1-F13B-4634-906C-49D3AA758C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e3ded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48064-9779-43FD-B26F-85853EFCF1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e3ded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8DE50-674D-4C19-B38A-28CE384323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e3ded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37AD7-C75A-4427-AEB7-2A1C18449F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1CCE5-974C-40F1-A95C-7D1EB9D89E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e3ded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61DA3-7C6C-4455-9D0E-769C7A1285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e3ded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175C8-0FDD-41FD-8916-63BE26F32A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e3ded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2321C-F91B-488C-B19C-528C74FACD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5f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3280" cy="1104840"/>
            <a:chOff x="1071720" y="304920"/>
            <a:chExt cx="7613280" cy="1104840"/>
          </a:xfrm>
        </p:grpSpPr>
        <p:sp>
          <p:nvSpPr>
            <p:cNvPr id="1" name=""/>
            <p:cNvSpPr/>
            <p:nvPr/>
          </p:nvSpPr>
          <p:spPr>
            <a:xfrm flipH="1">
              <a:off x="4869720" y="304920"/>
              <a:ext cx="1103040" cy="1103040"/>
            </a:xfrm>
            <a:prstGeom prst="ellipse">
              <a:avLst/>
            </a:prstGeom>
            <a:solidFill>
              <a:srgbClr val="8ab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3400" y="304920"/>
              <a:ext cx="1101600" cy="1103040"/>
            </a:xfrm>
            <a:prstGeom prst="ellipse">
              <a:avLst/>
            </a:prstGeom>
            <a:solidFill>
              <a:srgbClr val="8ab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1600" cy="1103400"/>
            </a:xfrm>
            <a:prstGeom prst="ellipse">
              <a:avLst/>
            </a:prstGeom>
            <a:solidFill>
              <a:srgbClr val="8ab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4120" y="304920"/>
              <a:ext cx="1101600" cy="1103040"/>
            </a:xfrm>
            <a:prstGeom prst="ellipse">
              <a:avLst/>
            </a:prstGeom>
            <a:noFill/>
            <a:ln w="28440">
              <a:solidFill>
                <a:srgbClr val="8ab8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9080" y="304920"/>
              <a:ext cx="1101600" cy="1103040"/>
            </a:xfrm>
            <a:prstGeom prst="ellipse">
              <a:avLst/>
            </a:prstGeom>
            <a:noFill/>
            <a:ln w="28440">
              <a:solidFill>
                <a:srgbClr val="8ab8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705608F-5CF9-4900-8548-7BC7BFB7120C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e3ded1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e3ded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5f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6040" cy="3198960"/>
            <a:chOff x="1658520" y="1600200"/>
            <a:chExt cx="6836040" cy="3198960"/>
          </a:xfrm>
        </p:grpSpPr>
        <p:sp>
          <p:nvSpPr>
            <p:cNvPr id="48" name=""/>
            <p:cNvSpPr/>
            <p:nvPr/>
          </p:nvSpPr>
          <p:spPr>
            <a:xfrm flipH="1">
              <a:off x="6972480" y="1600200"/>
              <a:ext cx="1522080" cy="1522440"/>
            </a:xfrm>
            <a:prstGeom prst="ellipse">
              <a:avLst/>
            </a:prstGeom>
            <a:solidFill>
              <a:srgbClr val="8ab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0760" y="1600200"/>
              <a:ext cx="1522440" cy="1522440"/>
            </a:xfrm>
            <a:prstGeom prst="ellipse">
              <a:avLst/>
            </a:prstGeom>
            <a:solidFill>
              <a:srgbClr val="8ab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120" y="1600200"/>
              <a:ext cx="1522440" cy="1522440"/>
            </a:xfrm>
            <a:prstGeom prst="ellipse">
              <a:avLst/>
            </a:prstGeom>
            <a:noFill/>
            <a:ln w="28440">
              <a:solidFill>
                <a:srgbClr val="8ab8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120" y="3276720"/>
              <a:ext cx="1522440" cy="1522440"/>
            </a:xfrm>
            <a:prstGeom prst="ellipse">
              <a:avLst/>
            </a:prstGeom>
            <a:solidFill>
              <a:srgbClr val="8ab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2440" cy="1522440"/>
            </a:xfrm>
            <a:prstGeom prst="ellipse">
              <a:avLst/>
            </a:prstGeom>
            <a:solidFill>
              <a:srgbClr val="8ab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2480" y="3276720"/>
              <a:ext cx="1522080" cy="1522440"/>
            </a:xfrm>
            <a:prstGeom prst="ellipse">
              <a:avLst/>
            </a:prstGeom>
            <a:noFill/>
            <a:ln w="28440">
              <a:solidFill>
                <a:srgbClr val="8ab8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e3ded1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e3ded1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987710-0714-48ED-80BD-8BBF5711E727}" type="slidenum">
              <a:rPr b="0" lang="ru-RU" sz="10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5f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93720" y="1143000"/>
            <a:ext cx="77724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6000" spc="-1" strike="noStrike">
                <a:solidFill>
                  <a:srgbClr val="ffffff"/>
                </a:solidFill>
                <a:latin typeface="Arial"/>
              </a:rPr>
              <a:t>Тема: Подвійний запи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4800600"/>
            <a:ext cx="61722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cc3399"/>
                </a:solidFill>
                <a:latin typeface="Arial"/>
              </a:rPr>
              <a:t> 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1.Суть і значення подвійного запис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2. Бухгалтерські проводки  порядок їх складанн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2280" y="30240"/>
            <a:ext cx="3181320" cy="237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0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5f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1414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432160" y="1755720"/>
            <a:ext cx="6499080" cy="4950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048120" y="1523880"/>
            <a:ext cx="2895480" cy="1500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63360" y="1905120"/>
            <a:ext cx="2355840" cy="3057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5f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1414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57200" y="1603440"/>
            <a:ext cx="8229600" cy="5181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276720" y="4795920"/>
            <a:ext cx="2971800" cy="190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5f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41280" y="274680"/>
            <a:ext cx="8352000" cy="12366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50720" y="1603440"/>
            <a:ext cx="82425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5f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341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90600" y="1603440"/>
            <a:ext cx="830268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5f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0720" y="1146240"/>
            <a:ext cx="8345520" cy="5559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23840" y="2819520"/>
            <a:ext cx="281952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5f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461440" cy="5279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657600" y="223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5f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31840" y="1481040"/>
            <a:ext cx="8766000" cy="52246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89640" y="1828800"/>
            <a:ext cx="3511440" cy="2114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5f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98440" y="152280"/>
            <a:ext cx="8394840" cy="13287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50720" y="1596960"/>
            <a:ext cx="8242560" cy="503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5f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8242560" cy="1285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26960" y="1603440"/>
            <a:ext cx="8101080" cy="1468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4" name=""/>
          <p:cNvGraphicFramePr/>
          <p:nvPr/>
        </p:nvGraphicFramePr>
        <p:xfrm>
          <a:off x="914400" y="3581280"/>
          <a:ext cx="8002080" cy="2415960"/>
        </p:xfrm>
        <a:graphic>
          <a:graphicData uri="http://schemas.openxmlformats.org/drawingml/2006/table">
            <a:tbl>
              <a:tblPr/>
              <a:tblGrid>
                <a:gridCol w="1271520"/>
                <a:gridCol w="3993480"/>
                <a:gridCol w="1014480"/>
                <a:gridCol w="773280"/>
                <a:gridCol w="949320"/>
              </a:tblGrid>
              <a:tr h="404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000" spc="-1" strike="noStrike">
                          <a:solidFill>
                            <a:srgbClr val="688a26"/>
                          </a:solidFill>
                          <a:latin typeface="Verdana"/>
                          <a:ea typeface="Times New Roman"/>
                        </a:rPr>
                        <a:t>№ </a:t>
                      </a:r>
                      <a:r>
                        <a:rPr b="0" i="1" lang="ru-RU" sz="2000" spc="-1" strike="noStrike">
                          <a:solidFill>
                            <a:srgbClr val="688a26"/>
                          </a:solidFill>
                          <a:latin typeface="Verdana"/>
                          <a:ea typeface="Times New Roman"/>
                        </a:rPr>
                        <a:t>і да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e8f3d4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uk-UA" sz="2000" spc="-1" strike="noStrike">
                          <a:solidFill>
                            <a:srgbClr val="688a26"/>
                          </a:solidFill>
                          <a:latin typeface="Verdana"/>
                          <a:ea typeface="Times New Roman"/>
                        </a:rPr>
                        <a:t>Короткий зміст господарської операції та підста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e8f3d4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uk-UA" sz="2000" spc="-1" strike="noStrike">
                          <a:solidFill>
                            <a:srgbClr val="688a26"/>
                          </a:solidFill>
                          <a:latin typeface="Verdana"/>
                          <a:ea typeface="Times New Roman"/>
                        </a:rPr>
                        <a:t>Сума,</a:t>
                      </a:r>
                      <a:br>
                        <a:rPr sz="2000"/>
                      </a:br>
                      <a:r>
                        <a:rPr b="0" i="1" lang="uk-UA" sz="2000" spc="-1" strike="noStrike">
                          <a:solidFill>
                            <a:srgbClr val="688a26"/>
                          </a:solidFill>
                          <a:latin typeface="Verdana"/>
                          <a:ea typeface="Times New Roman"/>
                        </a:rPr>
                        <a:t>гр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e8f3d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uk-UA" sz="2000" spc="-1" strike="noStrike">
                          <a:solidFill>
                            <a:srgbClr val="688a26"/>
                          </a:solidFill>
                          <a:latin typeface="Verdana"/>
                          <a:ea typeface="Times New Roman"/>
                        </a:rPr>
                        <a:t>Провод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e8f3d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uk-UA" sz="2000" spc="-1" strike="noStrike">
                          <a:solidFill>
                            <a:srgbClr val="688a26"/>
                          </a:solidFill>
                          <a:latin typeface="Verdana"/>
                          <a:ea typeface="Times New Roman"/>
                        </a:rPr>
                        <a:t>Д-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e8f3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uk-UA" sz="2000" spc="-1" strike="noStrike">
                          <a:solidFill>
                            <a:srgbClr val="688a26"/>
                          </a:solidFill>
                          <a:latin typeface="Verdana"/>
                          <a:ea typeface="Times New Roman"/>
                        </a:rPr>
                        <a:t>К-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e8f3d4"/>
                    </a:solidFill>
                  </a:tcPr>
                </a:tc>
              </a:tr>
              <a:tr h="100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688a26"/>
                          </a:solidFill>
                          <a:latin typeface="Verdana"/>
                          <a:ea typeface="Times New Roman"/>
                        </a:rPr>
                        <a:t>1 03.07</a:t>
                      </a:r>
                      <a:r>
                        <a:rPr b="0" lang="ru-RU" sz="2000" spc="-1" strike="noStrike">
                          <a:solidFill>
                            <a:srgbClr val="688a26"/>
                          </a:solidFill>
                          <a:latin typeface="Arial"/>
                          <a:ea typeface="Times New Roman"/>
                        </a:rPr>
                        <a:t>. 20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e8f3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uk-UA" sz="2000" spc="-1" strike="noStrike">
                          <a:solidFill>
                            <a:srgbClr val="688a26"/>
                          </a:solidFill>
                          <a:latin typeface="Verdana"/>
                          <a:ea typeface="Times New Roman"/>
                        </a:rPr>
                        <a:t>Надійшло в касу з поточного рахунка за чеком ІН № 21375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e8f3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uk-UA" sz="2000" spc="-1" strike="noStrike">
                          <a:solidFill>
                            <a:srgbClr val="688a26"/>
                          </a:solidFill>
                          <a:latin typeface="Verdana"/>
                          <a:ea typeface="Times New Roman"/>
                        </a:rPr>
                        <a:t>11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e8f3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uk-UA" sz="2000" spc="-1" strike="noStrike">
                          <a:solidFill>
                            <a:srgbClr val="688a26"/>
                          </a:solidFill>
                          <a:latin typeface="Verdana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e8f3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uk-UA" sz="2000" spc="-1" strike="noStrike">
                          <a:solidFill>
                            <a:srgbClr val="688a26"/>
                          </a:solidFill>
                          <a:latin typeface="Verdana"/>
                          <a:ea typeface="Times New Roman"/>
                        </a:rPr>
                        <a:t>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e8f3d4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5f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450800"/>
            <a:ext cx="8326440" cy="51818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505320" y="33480"/>
            <a:ext cx="264780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5f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279440"/>
            <a:ext cx="8534520" cy="5432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4920" y="4495680"/>
            <a:ext cx="1733400" cy="22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5f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0720" y="1450800"/>
            <a:ext cx="8242560" cy="4797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895480" y="4724280"/>
            <a:ext cx="2667240" cy="1497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943600" y="4572000"/>
            <a:ext cx="2228760" cy="2048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5f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65040" y="1444680"/>
            <a:ext cx="8248680" cy="5187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566040" y="4973760"/>
            <a:ext cx="1987560" cy="299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5f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305840" y="33480"/>
            <a:ext cx="1838160" cy="2485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57200" y="1596960"/>
            <a:ext cx="8229600" cy="454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5f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0720" y="219240"/>
            <a:ext cx="8242560" cy="16700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14360" y="1981080"/>
            <a:ext cx="8278920" cy="415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5f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78000" y="1603440"/>
            <a:ext cx="8405640" cy="4529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14400" y="27792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105520" y="1981080"/>
            <a:ext cx="258120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5f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3520" y="990720"/>
            <a:ext cx="82296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Рахунок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Рахун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“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Каса”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“ Рахунки в банку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Д-т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К-т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Д-т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К-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альдо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альд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+10 000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-10 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2209680"/>
            <a:ext cx="33526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0" y="2209680"/>
            <a:ext cx="1440" cy="198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05520" y="2209680"/>
            <a:ext cx="350496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2209680"/>
            <a:ext cx="1440" cy="2514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0" y="4495680"/>
            <a:ext cx="144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124080" y="4389480"/>
            <a:ext cx="188604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dur="indefinite" nodeType="clickEffect" fill="hold">
                      <p:stCondLst>
                        <p:cond delay="0"/>
                      </p:stCondLst>
                      <p:childTnLst>
                        <p:par>
                          <p:cTn id="1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5f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6360" y="1828800"/>
            <a:ext cx="2355840" cy="3352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50720" y="237960"/>
            <a:ext cx="8339400" cy="1621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36400" y="1981080"/>
            <a:ext cx="8150400" cy="4151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6324480" y="1828800"/>
            <a:ext cx="2390760" cy="1533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06:51:08Z</dcterms:created>
  <dc:creator>one</dc:creator>
  <dc:description/>
  <dc:language>en-US</dc:language>
  <cp:lastModifiedBy>one</cp:lastModifiedBy>
  <dcterms:modified xsi:type="dcterms:W3CDTF">2010-10-19T21:17:36Z</dcterms:modified>
  <cp:revision>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